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E4888D0-4B68-4EF5-BAE1-A117F90FDE31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0B43A3FB-4193-489D-AA0C-500E9903340B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0117AA2-AADD-4DFD-A684-D9C42B42155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18B7B51-116B-41F7-9C9E-FC2ECE9E131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F752A5F-F676-4D76-B7AD-0CB72C3B562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5C37C3C-E22A-4A2F-9289-0ED3362AA1B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B4B77A3-BBF9-4B3D-9157-B6C51D933C5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27289AB-7CD4-4DF9-9395-D138A3BD31F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7110C94-C9AD-46FA-8C4E-63BAA288514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17FCF3AE-5AA4-40F7-9621-EB5F873133F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DDB0ABFE-89DD-4B39-8E44-054845AC162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5280" y="84888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2: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oding Standar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228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4960" y="1439640"/>
            <a:ext cx="7635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familiar with the example PSP C++ coding standard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able to develop your own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2000" y="43632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93800" y="1439640"/>
            <a:ext cx="7943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R2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consistent set of coding pract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criteria for judging the quality of the code that you p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ate LOC counting by ensuring that your programs are written with a separate physical line for each logical line of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93800" y="1439640"/>
            <a:ext cx="7872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, document, and submit a completed coding standard that calls for quality coding pract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that a separate physical source line is used for each logical line of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the coding standard with your 2A assignment pack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0320" y="4442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ding Standard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82280" y="1434960"/>
            <a:ext cx="77389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C29 on page 670 is an example C++ coding standar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893880" y="2157480"/>
          <a:ext cx="3016080" cy="37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157480"/>
                    <a:ext cx="301608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5"/>
          <p:cNvGraphicFramePr/>
          <p:nvPr/>
        </p:nvGraphicFramePr>
        <p:xfrm>
          <a:off x="4111560" y="2176560"/>
          <a:ext cx="3930840" cy="3157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560" y="2176560"/>
                    <a:ext cx="39308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otes About the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93800" y="1439640"/>
            <a:ext cx="76485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n example; therefore, it should be tailored to your prefere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have an existing organizational standard, then you should consider using it for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/Sugg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2200" y="14396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tandard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2T13:24:10Z</cp:lastPrinted>
  <dcterms:modified xsi:type="dcterms:W3CDTF">2018-09-06T00:17:03Z</dcterms:modified>
  <cp:revision>51</cp:revision>
  <dc:subject/>
  <dc:title>No Slide Title</dc:title>
</cp:coreProperties>
</file>